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2"/>
          </p:nvPr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0618D996-6EF1-4075-9349-8479504D322A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41920" y="152280"/>
            <a:ext cx="1625400" cy="47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C8A539D8-C33C-4E92-A8C3-255B3BFB3703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5C90AD8B-4A39-429A-8E42-06CEC8B2F6ED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uumikmeesk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C1088798-1746-438E-8DD4-7638EC73945B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BB169F21-185B-4CBF-9DD2-9C8813704027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link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u.samba.org/cgi-bin/sw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g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Times New Roman"/>
              </a:rPr>
              <a:t>otsepöördumine mälu kalla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-- direct memory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200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592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200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592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35400" y="6427800"/>
            <a:ext cx="62640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IT Kolledzh/TTÜ E.Domiczi based on T.Tammet     Intro to IT lecture 8     </a:t>
            </a:r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	</a:t>
            </a:r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                pg     - </a:t>
            </a:r>
            <a:fld id="{D209ECB1-BF55-4FBF-9B0D-247B98B55C40}" type="slidenum"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&lt;number&gt;</a:t>
            </a:fld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8080" y="549360"/>
            <a:ext cx="7770600" cy="215640"/>
            <a:chOff x="838080" y="549360"/>
            <a:chExt cx="7770600" cy="215640"/>
          </a:xfrm>
        </p:grpSpPr>
        <p:sp>
          <p:nvSpPr>
            <p:cNvPr id="5" name=""/>
            <p:cNvSpPr/>
            <p:nvPr/>
          </p:nvSpPr>
          <p:spPr>
            <a:xfrm>
              <a:off x="838080" y="76500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608680" y="549360"/>
              <a:ext cx="0" cy="2145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838080" y="6383160"/>
            <a:ext cx="150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6666ff"/>
                </a:solidFill>
                <a:latin typeface="Arial"/>
                <a:ea typeface="MS Gothic"/>
              </a:rPr>
              <a:t>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6386400"/>
            <a:ext cx="374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 Kolledzh/TTÜ  E.Domiczi based on T.Tamme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tu.ee/it/vorgutarkvara/wai2030/csapp.beta.11.16.pdf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program" TargetMode="External"/><Relationship Id="rId2" Type="http://schemas.openxmlformats.org/officeDocument/2006/relationships/hyperlink" Target="http://en.wikipedia.org/wiki/Computer_hardware" TargetMode="External"/><Relationship Id="rId3" Type="http://schemas.openxmlformats.org/officeDocument/2006/relationships/hyperlink" Target="http://en.wikipedia.org/wiki/Software" TargetMode="External"/><Relationship Id="rId4" Type="http://schemas.openxmlformats.org/officeDocument/2006/relationships/hyperlink" Target="http://en.wikipedia.org/wiki/Computer" TargetMode="External"/><Relationship Id="rId5" Type="http://schemas.openxmlformats.org/officeDocument/2006/relationships/hyperlink" Target="http://en.wikipedia.org/wiki/Memory_%28computers%29" TargetMode="External"/><Relationship Id="rId6" Type="http://schemas.openxmlformats.org/officeDocument/2006/relationships/hyperlink" Target="http://en.wikipedia.org/wiki/Computer_networking" TargetMode="External"/><Relationship Id="rId7" Type="http://schemas.openxmlformats.org/officeDocument/2006/relationships/hyperlink" Target="http://en.wikipedia.org/wiki/Computer_file" TargetMode="External"/><Relationship Id="rId8" Type="http://schemas.openxmlformats.org/officeDocument/2006/relationships/hyperlink" Target="http://en.wikipedia.org/wiki/Graphical_user_interface" TargetMode="Externa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progra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Introduction to Information Technology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tran: summing numbers 0…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SP: summing numbers 0…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umto and  Modula-2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umto and Ad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umto and C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C (ja 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Cach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d memory hierarch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ture with explanation on (black)boar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lternat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following additional maerial:</a:t>
            </a:r>
            <a:br>
              <a:rPr sz="1800"/>
            </a:b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Computer Systems: a programmers perspectiv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Operating System (OpSys)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 basic goals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programmers a ready standardized “piece” (of software)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ive possibility for the computer user to act homogeneously and as has been used to independently of the programming environment or the compute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OpSys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s can also be programmed without an OpSy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case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reation of every program would be much more difficult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users different programs would look very different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computer progr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at manages the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hardwa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softwa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esources of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4"/>
              </a:rPr>
              <a:t>compu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s basic tasks such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and allocating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5"/>
              </a:rPr>
              <a:t>mem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izing system reques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input and output devi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ating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6"/>
              </a:rPr>
              <a:t>network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ing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7"/>
              </a:rPr>
              <a:t>fi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provide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8"/>
              </a:rPr>
              <a:t>graphical user interfa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or higher level func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at OpSys mostly does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read programs from disk and make them run (execute; XEQ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stop programs (finally or for just a short pause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write files and catalogs on a disk and read them from there</a:t>
            </a:r>
            <a:r>
              <a:rPr b="1" lang="et-EE" sz="16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e with devic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(printer, monitor, 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yboard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n communicate with network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would not be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stems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rogram would have to be able to do these things itsel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computer progr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at manages the hardware and software resources of a compu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s basic tasks such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and allocating memo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izing system reques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input and output devi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ating networking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ing fi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provide a graphical user interface for higher level func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Naked mach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re in the naked machine (unclothed by an OS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registers, opcod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y be several chunk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i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pped to memory locations, able to transfer data to and from memor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Definitions of OS!? …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machi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or virtual machine. Takes the basic hardware, and provides additional layers of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ality. The virtual machine is usually simpler and more consistent than the real machine. Practically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itional layers will build on the lowest-level ones, providing a rich programming model for the application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(which in turn provides a 'virtual machine' to the use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Allocates scarce resources, like disk space, memory, processor between competi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s and users. Each process thinks that it has its own machine (its own files, its own printer, whatever). In a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y, this is also extending the machine (in order to appear to be many machin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thing which runs in the computer's privileged mo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or supervisor mode. Typically most modern processor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ve two or more operating modes, user and supervisor. In supervisor mode, able to access all of memory and all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dw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cture overview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s: basic ideas,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ac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per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main Operating Systems (OpS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Definitions of OS!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ftware which is supplied with the machi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Often includes many things not traditionally considered par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operating system, like GUIs, editors, Web browsers, and stuff.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latform on which other software can ru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Lots of platforms are not operating systems (like Netscap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vigator, or Microsoft Word). Java is almost an operating system. Provides many services commonly associate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Operating Systems, like managing multiple concurrent processes, and providing access to f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velopment History of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uters without Op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tch process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processing and terminals -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computers - IBM, Xerox, Apple, DOS,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Role of the Ops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59000" y="1698480"/>
            <a:ext cx="5011920" cy="4305600"/>
            <a:chOff x="2259000" y="1698480"/>
            <a:chExt cx="5011920" cy="4305600"/>
          </a:xfrm>
        </p:grpSpPr>
        <p:grpSp>
          <p:nvGrpSpPr>
            <p:cNvPr id="137" name=""/>
            <p:cNvGrpSpPr/>
            <p:nvPr/>
          </p:nvGrpSpPr>
          <p:grpSpPr>
            <a:xfrm>
              <a:off x="2259000" y="4956120"/>
              <a:ext cx="5011920" cy="1047960"/>
              <a:chOff x="2259000" y="4956120"/>
              <a:chExt cx="5011920" cy="1047960"/>
            </a:xfrm>
          </p:grpSpPr>
          <p:sp>
            <p:nvSpPr>
              <p:cNvPr id="138" name=""/>
              <p:cNvSpPr/>
              <p:nvPr/>
            </p:nvSpPr>
            <p:spPr>
              <a:xfrm>
                <a:off x="2335320" y="495612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93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46480" y="4956120"/>
                <a:ext cx="295200" cy="28728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6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41440" y="4956120"/>
                <a:ext cx="29556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35320" y="495792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8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16240" y="4957920"/>
                <a:ext cx="306360" cy="29340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1" y="4"/>
                    </a:lnTo>
                    <a:lnTo>
                      <a:pt x="193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24160" y="49579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8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16240" y="496080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1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00400" y="4964040"/>
                <a:ext cx="303120" cy="295200"/>
              </a:xfrm>
              <a:custGeom>
                <a:avLst/>
                <a:gdLst/>
                <a:ahLst/>
                <a:rect l="l" t="t" r="r" b="b"/>
                <a:pathLst>
                  <a:path w="191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1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86000" y="497196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56280" y="567540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67440" y="5659560"/>
                <a:ext cx="295200" cy="30312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75360" y="564048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75360" y="5648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77160" y="564048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80400" y="562140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80400" y="563076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80400" y="5621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83280" y="5051520"/>
                <a:ext cx="287640" cy="85716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80400" y="503244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80400" y="504180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80400" y="50324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75360" y="501336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80400" y="502596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77160" y="50227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b1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77160" y="5018040"/>
                <a:ext cx="28872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75360" y="501336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67440" y="499896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72480" y="5010120"/>
                <a:ext cx="29016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69240" y="50068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69240" y="500220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b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67440" y="49989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aa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4983120"/>
                <a:ext cx="298440" cy="30312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964200" y="499428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61320" y="49910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7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58080" y="49878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5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56280" y="498312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3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40440" y="497196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1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1" y="7"/>
                    </a:lnTo>
                    <a:lnTo>
                      <a:pt x="10" y="188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50160" y="497988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48360" y="49766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9f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945480" y="49752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9d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40440" y="497196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3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3" y="183"/>
                    </a:lnTo>
                    <a:close/>
                  </a:path>
                </a:pathLst>
              </a:custGeom>
              <a:solidFill>
                <a:srgbClr val="9b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23160" y="4964040"/>
                <a:ext cx="304560" cy="29520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1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1" y="186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37200" y="49687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31080" y="496728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96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29280" y="4967280"/>
                <a:ext cx="290520" cy="2890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9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23160" y="496404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07320" y="4957920"/>
                <a:ext cx="306360" cy="29340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921360" y="496080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15240" y="4960800"/>
                <a:ext cx="293760" cy="28764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4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1"/>
                    </a:lnTo>
                    <a:close/>
                  </a:path>
                </a:pathLst>
              </a:custGeom>
              <a:solidFill>
                <a:srgbClr val="8c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12000" y="49579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7320" y="495792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86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88240" y="495612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2280" y="4957920"/>
                <a:ext cx="292320" cy="28872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92920" y="495612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6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6" y="183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88240" y="495612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7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4400" y="4956120"/>
                <a:ext cx="4821120" cy="287280"/>
              </a:xfrm>
              <a:custGeom>
                <a:avLst/>
                <a:gdLst/>
                <a:ahLst/>
                <a:rect l="l" t="t" r="r" b="b"/>
                <a:pathLst>
                  <a:path w="3037" h="181">
                    <a:moveTo>
                      <a:pt x="285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037" y="0"/>
                    </a:lnTo>
                    <a:lnTo>
                      <a:pt x="2856" y="181"/>
                    </a:lnTo>
                    <a:close/>
                  </a:path>
                </a:pathLst>
              </a:custGeom>
              <a:solidFill>
                <a:srgbClr val="79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59000" y="5243400"/>
                <a:ext cx="4724280" cy="760680"/>
              </a:xfrm>
              <a:custGeom>
                <a:avLst/>
                <a:gdLst/>
                <a:ahLst/>
                <a:rect l="l" t="t" r="r" b="b"/>
                <a:pathLst>
                  <a:path w="2976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5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2916" y="479"/>
                    </a:lnTo>
                    <a:lnTo>
                      <a:pt x="2928" y="477"/>
                    </a:lnTo>
                    <a:lnTo>
                      <a:pt x="2938" y="474"/>
                    </a:lnTo>
                    <a:lnTo>
                      <a:pt x="2949" y="468"/>
                    </a:lnTo>
                    <a:lnTo>
                      <a:pt x="2959" y="462"/>
                    </a:lnTo>
                    <a:lnTo>
                      <a:pt x="2966" y="453"/>
                    </a:lnTo>
                    <a:lnTo>
                      <a:pt x="2971" y="443"/>
                    </a:lnTo>
                    <a:lnTo>
                      <a:pt x="2974" y="431"/>
                    </a:lnTo>
                    <a:lnTo>
                      <a:pt x="2976" y="419"/>
                    </a:lnTo>
                    <a:lnTo>
                      <a:pt x="2976" y="60"/>
                    </a:lnTo>
                    <a:lnTo>
                      <a:pt x="2974" y="48"/>
                    </a:lnTo>
                    <a:lnTo>
                      <a:pt x="2971" y="38"/>
                    </a:lnTo>
                    <a:lnTo>
                      <a:pt x="2966" y="27"/>
                    </a:lnTo>
                    <a:lnTo>
                      <a:pt x="2959" y="17"/>
                    </a:lnTo>
                    <a:lnTo>
                      <a:pt x="2949" y="10"/>
                    </a:lnTo>
                    <a:lnTo>
                      <a:pt x="2938" y="5"/>
                    </a:lnTo>
                    <a:lnTo>
                      <a:pt x="2928" y="2"/>
                    </a:lnTo>
                    <a:lnTo>
                      <a:pt x="2916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c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3657960" y="5369040"/>
              <a:ext cx="1478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843520" y="4141800"/>
              <a:ext cx="1152720" cy="1101600"/>
              <a:chOff x="5843520" y="4141800"/>
              <a:chExt cx="1152720" cy="1101600"/>
            </a:xfrm>
          </p:grpSpPr>
          <p:sp>
            <p:nvSpPr>
              <p:cNvPr id="197" name=""/>
              <p:cNvSpPr/>
              <p:nvPr/>
            </p:nvSpPr>
            <p:spPr>
              <a:xfrm>
                <a:off x="5843520" y="4141800"/>
                <a:ext cx="719280" cy="450720"/>
              </a:xfrm>
              <a:custGeom>
                <a:avLst/>
                <a:gdLst/>
                <a:ahLst/>
                <a:rect l="l" t="t" r="r" b="b"/>
                <a:pathLst>
                  <a:path w="453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1" y="102"/>
                    </a:lnTo>
                    <a:lnTo>
                      <a:pt x="453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43520" y="479268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91160" y="4792680"/>
                <a:ext cx="50508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91160" y="4303800"/>
                <a:ext cx="289080" cy="776160"/>
              </a:xfrm>
              <a:custGeom>
                <a:avLst/>
                <a:gdLst/>
                <a:ahLst/>
                <a:rect l="l" t="t" r="r" b="b"/>
                <a:pathLst>
                  <a:path w="182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2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75520" y="414180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3" y="2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454" y="102"/>
                    </a:lnTo>
                    <a:lnTo>
                      <a:pt x="273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43520" y="4429080"/>
                <a:ext cx="865080" cy="814320"/>
              </a:xfrm>
              <a:custGeom>
                <a:avLst/>
                <a:gdLst/>
                <a:ahLst/>
                <a:rect l="l" t="t" r="r" b="b"/>
                <a:pathLst>
                  <a:path w="545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6" y="103"/>
                    </a:lnTo>
                    <a:lnTo>
                      <a:pt x="136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5" y="410"/>
                    </a:lnTo>
                    <a:lnTo>
                      <a:pt x="408" y="410"/>
                    </a:lnTo>
                    <a:lnTo>
                      <a:pt x="408" y="103"/>
                    </a:lnTo>
                    <a:lnTo>
                      <a:pt x="545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236760" y="2637000"/>
              <a:ext cx="27720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6160" y="2719440"/>
              <a:ext cx="758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92920" y="3041640"/>
              <a:ext cx="950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00560" y="4265640"/>
              <a:ext cx="27716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2760" y="4348080"/>
              <a:ext cx="915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19640" y="4670280"/>
              <a:ext cx="101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584440" y="4141800"/>
              <a:ext cx="1154160" cy="1101600"/>
              <a:chOff x="2584440" y="4141800"/>
              <a:chExt cx="1154160" cy="1101600"/>
            </a:xfrm>
          </p:grpSpPr>
          <p:sp>
            <p:nvSpPr>
              <p:cNvPr id="210" name=""/>
              <p:cNvSpPr/>
              <p:nvPr/>
            </p:nvSpPr>
            <p:spPr>
              <a:xfrm>
                <a:off x="2584440" y="414180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2" y="102"/>
                    </a:lnTo>
                    <a:lnTo>
                      <a:pt x="454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84440" y="4792680"/>
                <a:ext cx="506520" cy="287280"/>
              </a:xfrm>
              <a:custGeom>
                <a:avLst/>
                <a:gdLst/>
                <a:ahLst/>
                <a:rect l="l" t="t" r="r" b="b"/>
                <a:pathLst>
                  <a:path w="319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9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33880" y="479268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33880" y="4303800"/>
                <a:ext cx="287280" cy="776160"/>
              </a:xfrm>
              <a:custGeom>
                <a:avLst/>
                <a:gdLst/>
                <a:ahLst/>
                <a:rect l="l" t="t" r="r" b="b"/>
                <a:pathLst>
                  <a:path w="181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1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16080" y="4141800"/>
                <a:ext cx="722520" cy="450720"/>
              </a:xfrm>
              <a:custGeom>
                <a:avLst/>
                <a:gdLst/>
                <a:ahLst/>
                <a:rect l="l" t="t" r="r" b="b"/>
                <a:pathLst>
                  <a:path w="455" h="284">
                    <a:moveTo>
                      <a:pt x="274" y="2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455" y="102"/>
                    </a:lnTo>
                    <a:lnTo>
                      <a:pt x="274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84440" y="4429080"/>
                <a:ext cx="866880" cy="814320"/>
              </a:xfrm>
              <a:custGeom>
                <a:avLst/>
                <a:gdLst/>
                <a:ahLst/>
                <a:rect l="l" t="t" r="r" b="b"/>
                <a:pathLst>
                  <a:path w="546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7" y="103"/>
                    </a:lnTo>
                    <a:lnTo>
                      <a:pt x="137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6" y="410"/>
                    </a:lnTo>
                    <a:lnTo>
                      <a:pt x="409" y="410"/>
                    </a:lnTo>
                    <a:lnTo>
                      <a:pt x="409" y="103"/>
                    </a:lnTo>
                    <a:lnTo>
                      <a:pt x="546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259000" y="3327480"/>
              <a:ext cx="5011920" cy="1047600"/>
              <a:chOff x="2259000" y="3327480"/>
              <a:chExt cx="5011920" cy="1047600"/>
            </a:xfrm>
          </p:grpSpPr>
          <p:sp>
            <p:nvSpPr>
              <p:cNvPr id="217" name=""/>
              <p:cNvSpPr/>
              <p:nvPr/>
            </p:nvSpPr>
            <p:spPr>
              <a:xfrm>
                <a:off x="2335320" y="3327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93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46480" y="3327480"/>
                <a:ext cx="295200" cy="28728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6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41440" y="3327480"/>
                <a:ext cx="29556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35320" y="332892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a30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6240" y="332892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1" y="4"/>
                    </a:lnTo>
                    <a:lnTo>
                      <a:pt x="193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24160" y="33289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8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16240" y="333216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1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00400" y="3335400"/>
                <a:ext cx="303120" cy="295200"/>
              </a:xfrm>
              <a:custGeom>
                <a:avLst/>
                <a:gdLst/>
                <a:ahLst/>
                <a:rect l="l" t="t" r="r" b="b"/>
                <a:pathLst>
                  <a:path w="191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1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86000" y="334332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56280" y="404640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67440" y="4030560"/>
                <a:ext cx="295200" cy="30348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75360" y="401148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75360" y="4019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77160" y="401148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80400" y="3992400"/>
                <a:ext cx="290520" cy="30672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80400" y="400212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0400" y="3992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83280" y="3422520"/>
                <a:ext cx="287640" cy="85752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80400" y="3403440"/>
                <a:ext cx="290520" cy="30672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0400" y="341316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80400" y="34034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975360" y="338472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80400" y="339732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77160" y="33940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d0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77160" y="3389400"/>
                <a:ext cx="28872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975360" y="338472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db0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67440" y="337032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72480" y="3381480"/>
                <a:ext cx="29016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69240" y="33782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8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69240" y="337356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6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67440" y="33703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d4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56280" y="3354480"/>
                <a:ext cx="298440" cy="30312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64200" y="336564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61320" y="33624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10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58080" y="33591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f0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56280" y="335448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cd0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40440" y="334332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1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1" y="7"/>
                    </a:lnTo>
                    <a:lnTo>
                      <a:pt x="10" y="188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50160" y="335124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48360" y="33480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c80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45480" y="33465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50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0440" y="334332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3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3" y="183"/>
                    </a:lnTo>
                    <a:close/>
                  </a:path>
                </a:pathLst>
              </a:custGeom>
              <a:solidFill>
                <a:srgbClr val="c200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23160" y="3335400"/>
                <a:ext cx="304560" cy="29520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1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1" y="186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7200" y="33400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31080" y="333864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bc0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29280" y="3338640"/>
                <a:ext cx="290520" cy="28872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b90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23160" y="33354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b60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07320" y="332892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21360" y="333216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15240" y="333216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4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1"/>
                    </a:lnTo>
                    <a:close/>
                  </a:path>
                </a:pathLst>
              </a:custGeom>
              <a:solidFill>
                <a:srgbClr val="af0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12000" y="33289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07320" y="332892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90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88240" y="3327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02280" y="3328920"/>
                <a:ext cx="292320" cy="28908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92920" y="332748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6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6" y="183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88240" y="332748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54400" y="3327480"/>
                <a:ext cx="4821120" cy="287280"/>
              </a:xfrm>
              <a:custGeom>
                <a:avLst/>
                <a:gdLst/>
                <a:ahLst/>
                <a:rect l="l" t="t" r="r" b="b"/>
                <a:pathLst>
                  <a:path w="3037" h="181">
                    <a:moveTo>
                      <a:pt x="285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037" y="0"/>
                    </a:lnTo>
                    <a:lnTo>
                      <a:pt x="2856" y="181"/>
                    </a:lnTo>
                    <a:close/>
                  </a:path>
                </a:pathLst>
              </a:custGeom>
              <a:solidFill>
                <a:srgbClr val="970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59000" y="3614760"/>
                <a:ext cx="4724280" cy="760320"/>
              </a:xfrm>
              <a:custGeom>
                <a:avLst/>
                <a:gdLst/>
                <a:ahLst/>
                <a:rect l="l" t="t" r="r" b="b"/>
                <a:pathLst>
                  <a:path w="2976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5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2916" y="479"/>
                    </a:lnTo>
                    <a:lnTo>
                      <a:pt x="2928" y="477"/>
                    </a:lnTo>
                    <a:lnTo>
                      <a:pt x="2938" y="474"/>
                    </a:lnTo>
                    <a:lnTo>
                      <a:pt x="2949" y="468"/>
                    </a:lnTo>
                    <a:lnTo>
                      <a:pt x="2959" y="462"/>
                    </a:lnTo>
                    <a:lnTo>
                      <a:pt x="2966" y="453"/>
                    </a:lnTo>
                    <a:lnTo>
                      <a:pt x="2971" y="443"/>
                    </a:lnTo>
                    <a:lnTo>
                      <a:pt x="2974" y="431"/>
                    </a:lnTo>
                    <a:lnTo>
                      <a:pt x="2976" y="419"/>
                    </a:lnTo>
                    <a:lnTo>
                      <a:pt x="2976" y="60"/>
                    </a:lnTo>
                    <a:lnTo>
                      <a:pt x="2974" y="48"/>
                    </a:lnTo>
                    <a:lnTo>
                      <a:pt x="2971" y="38"/>
                    </a:lnTo>
                    <a:lnTo>
                      <a:pt x="2966" y="27"/>
                    </a:lnTo>
                    <a:lnTo>
                      <a:pt x="2959" y="17"/>
                    </a:lnTo>
                    <a:lnTo>
                      <a:pt x="2949" y="10"/>
                    </a:lnTo>
                    <a:lnTo>
                      <a:pt x="2938" y="5"/>
                    </a:lnTo>
                    <a:lnTo>
                      <a:pt x="2928" y="2"/>
                    </a:lnTo>
                    <a:lnTo>
                      <a:pt x="2916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30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815280" y="3740040"/>
              <a:ext cx="1233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S Co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584440" y="2513160"/>
              <a:ext cx="1154160" cy="1101600"/>
              <a:chOff x="2584440" y="2513160"/>
              <a:chExt cx="1154160" cy="1101600"/>
            </a:xfrm>
          </p:grpSpPr>
          <p:sp>
            <p:nvSpPr>
              <p:cNvPr id="276" name=""/>
              <p:cNvSpPr/>
              <p:nvPr/>
            </p:nvSpPr>
            <p:spPr>
              <a:xfrm>
                <a:off x="2584440" y="251316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2" y="102"/>
                    </a:lnTo>
                    <a:lnTo>
                      <a:pt x="454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84440" y="3164040"/>
                <a:ext cx="506520" cy="287280"/>
              </a:xfrm>
              <a:custGeom>
                <a:avLst/>
                <a:gdLst/>
                <a:ahLst/>
                <a:rect l="l" t="t" r="r" b="b"/>
                <a:pathLst>
                  <a:path w="319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9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33880" y="316404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33880" y="2674800"/>
                <a:ext cx="287280" cy="776520"/>
              </a:xfrm>
              <a:custGeom>
                <a:avLst/>
                <a:gdLst/>
                <a:ahLst/>
                <a:rect l="l" t="t" r="r" b="b"/>
                <a:pathLst>
                  <a:path w="181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1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16080" y="2513160"/>
                <a:ext cx="722520" cy="450720"/>
              </a:xfrm>
              <a:custGeom>
                <a:avLst/>
                <a:gdLst/>
                <a:ahLst/>
                <a:rect l="l" t="t" r="r" b="b"/>
                <a:pathLst>
                  <a:path w="455" h="284">
                    <a:moveTo>
                      <a:pt x="274" y="2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455" y="102"/>
                    </a:lnTo>
                    <a:lnTo>
                      <a:pt x="274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84440" y="2800440"/>
                <a:ext cx="866880" cy="814320"/>
              </a:xfrm>
              <a:custGeom>
                <a:avLst/>
                <a:gdLst/>
                <a:ahLst/>
                <a:rect l="l" t="t" r="r" b="b"/>
                <a:pathLst>
                  <a:path w="546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7" y="103"/>
                    </a:lnTo>
                    <a:lnTo>
                      <a:pt x="137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6" y="410"/>
                    </a:lnTo>
                    <a:lnTo>
                      <a:pt x="409" y="410"/>
                    </a:lnTo>
                    <a:lnTo>
                      <a:pt x="409" y="103"/>
                    </a:lnTo>
                    <a:lnTo>
                      <a:pt x="546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843520" y="2513160"/>
              <a:ext cx="1152720" cy="1101600"/>
              <a:chOff x="5843520" y="2513160"/>
              <a:chExt cx="1152720" cy="1101600"/>
            </a:xfrm>
          </p:grpSpPr>
          <p:sp>
            <p:nvSpPr>
              <p:cNvPr id="283" name=""/>
              <p:cNvSpPr/>
              <p:nvPr/>
            </p:nvSpPr>
            <p:spPr>
              <a:xfrm>
                <a:off x="5843520" y="2513160"/>
                <a:ext cx="719280" cy="450720"/>
              </a:xfrm>
              <a:custGeom>
                <a:avLst/>
                <a:gdLst/>
                <a:ahLst/>
                <a:rect l="l" t="t" r="r" b="b"/>
                <a:pathLst>
                  <a:path w="453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1" y="102"/>
                    </a:lnTo>
                    <a:lnTo>
                      <a:pt x="453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43520" y="316404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91160" y="3164040"/>
                <a:ext cx="50508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91160" y="2674800"/>
                <a:ext cx="289080" cy="776520"/>
              </a:xfrm>
              <a:custGeom>
                <a:avLst/>
                <a:gdLst/>
                <a:ahLst/>
                <a:rect l="l" t="t" r="r" b="b"/>
                <a:pathLst>
                  <a:path w="182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2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75520" y="251316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3" y="2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454" y="102"/>
                    </a:lnTo>
                    <a:lnTo>
                      <a:pt x="273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43520" y="2800440"/>
                <a:ext cx="865080" cy="814320"/>
              </a:xfrm>
              <a:custGeom>
                <a:avLst/>
                <a:gdLst/>
                <a:ahLst/>
                <a:rect l="l" t="t" r="r" b="b"/>
                <a:pathLst>
                  <a:path w="545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6" y="103"/>
                    </a:lnTo>
                    <a:lnTo>
                      <a:pt x="136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5" y="410"/>
                    </a:lnTo>
                    <a:lnTo>
                      <a:pt x="408" y="410"/>
                    </a:lnTo>
                    <a:lnTo>
                      <a:pt x="408" y="103"/>
                    </a:lnTo>
                    <a:lnTo>
                      <a:pt x="545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259000" y="1698480"/>
              <a:ext cx="2568600" cy="1047960"/>
              <a:chOff x="2259000" y="1698480"/>
              <a:chExt cx="2568600" cy="1047960"/>
            </a:xfrm>
          </p:grpSpPr>
          <p:sp>
            <p:nvSpPr>
              <p:cNvPr id="290" name=""/>
              <p:cNvSpPr/>
              <p:nvPr/>
            </p:nvSpPr>
            <p:spPr>
              <a:xfrm>
                <a:off x="2335320" y="1698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93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46480" y="1698480"/>
                <a:ext cx="295200" cy="28764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6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41440" y="1698480"/>
                <a:ext cx="29556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3532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8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16240" y="170028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1" y="4"/>
                    </a:lnTo>
                    <a:lnTo>
                      <a:pt x="193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24160" y="170028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8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16240" y="17035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1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00400" y="1706400"/>
                <a:ext cx="303120" cy="295560"/>
              </a:xfrm>
              <a:custGeom>
                <a:avLst/>
                <a:gdLst/>
                <a:ahLst/>
                <a:rect l="l" t="t" r="r" b="b"/>
                <a:pathLst>
                  <a:path w="191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1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0" y="171468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13320" y="241776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24480" y="2401920"/>
                <a:ext cx="295200" cy="30312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32400" y="2382840"/>
                <a:ext cx="29196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32400" y="2390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33840" y="23828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37080" y="236376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37080" y="237348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37080" y="2363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40320" y="1793880"/>
                <a:ext cx="287280" cy="85716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37080" y="177480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37080" y="178452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37080" y="17748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32400" y="1755720"/>
                <a:ext cx="29196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37080" y="176832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3840" y="1765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b1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33840" y="176040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32400" y="175572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24480" y="174132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29160" y="1752480"/>
                <a:ext cx="29052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5920" y="1749600"/>
                <a:ext cx="290520" cy="29016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25920" y="174456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b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24480" y="1741320"/>
                <a:ext cx="288720" cy="290520"/>
              </a:xfrm>
              <a:custGeom>
                <a:avLst/>
                <a:gdLst/>
                <a:ahLst/>
                <a:rect l="l" t="t" r="r" b="b"/>
                <a:pathLst>
                  <a:path w="182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2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aa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13320" y="1725480"/>
                <a:ext cx="298440" cy="30348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21240" y="173664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18000" y="17334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7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14760" y="17305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5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13320" y="172548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3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1714680"/>
                <a:ext cx="304920" cy="298440"/>
              </a:xfrm>
              <a:custGeom>
                <a:avLst/>
                <a:gdLst/>
                <a:ahLst/>
                <a:rect l="l" t="t" r="r" b="b"/>
                <a:pathLst>
                  <a:path w="192" h="188">
                    <a:moveTo>
                      <a:pt x="11" y="188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92" y="7"/>
                    </a:lnTo>
                    <a:lnTo>
                      <a:pt x="11" y="188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06840" y="17226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7193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9f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02160" y="17175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9d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95680" y="1714680"/>
                <a:ext cx="293760" cy="29016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9b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79840" y="1706400"/>
                <a:ext cx="304920" cy="29556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0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0" y="186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94240" y="1711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87760" y="170964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96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86320" y="1709640"/>
                <a:ext cx="290520" cy="2890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9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79840" y="17064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64000" y="170028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76600" y="170352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71920" y="170352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8c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68680" y="17002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6400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86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44920" y="1698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57880" y="1700280"/>
                <a:ext cx="29340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49600" y="169848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5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5" y="183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44920" y="1698480"/>
                <a:ext cx="293760" cy="28764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7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54400" y="1698480"/>
                <a:ext cx="2377800" cy="287640"/>
              </a:xfrm>
              <a:custGeom>
                <a:avLst/>
                <a:gdLst/>
                <a:ahLst/>
                <a:rect l="l" t="t" r="r" b="b"/>
                <a:pathLst>
                  <a:path w="1498" h="181">
                    <a:moveTo>
                      <a:pt x="1317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498" y="0"/>
                    </a:lnTo>
                    <a:lnTo>
                      <a:pt x="1317" y="181"/>
                    </a:lnTo>
                    <a:close/>
                  </a:path>
                </a:pathLst>
              </a:custGeom>
              <a:solidFill>
                <a:srgbClr val="79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59000" y="1986120"/>
                <a:ext cx="2281320" cy="760320"/>
              </a:xfrm>
              <a:custGeom>
                <a:avLst/>
                <a:gdLst/>
                <a:ahLst/>
                <a:rect l="l" t="t" r="r" b="b"/>
                <a:pathLst>
                  <a:path w="1437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5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1377" y="479"/>
                    </a:lnTo>
                    <a:lnTo>
                      <a:pt x="1389" y="477"/>
                    </a:lnTo>
                    <a:lnTo>
                      <a:pt x="1399" y="474"/>
                    </a:lnTo>
                    <a:lnTo>
                      <a:pt x="1409" y="468"/>
                    </a:lnTo>
                    <a:lnTo>
                      <a:pt x="1420" y="462"/>
                    </a:lnTo>
                    <a:lnTo>
                      <a:pt x="1427" y="453"/>
                    </a:lnTo>
                    <a:lnTo>
                      <a:pt x="1432" y="443"/>
                    </a:lnTo>
                    <a:lnTo>
                      <a:pt x="1435" y="431"/>
                    </a:lnTo>
                    <a:lnTo>
                      <a:pt x="1437" y="419"/>
                    </a:lnTo>
                    <a:lnTo>
                      <a:pt x="1437" y="60"/>
                    </a:lnTo>
                    <a:lnTo>
                      <a:pt x="1435" y="48"/>
                    </a:lnTo>
                    <a:lnTo>
                      <a:pt x="1432" y="38"/>
                    </a:lnTo>
                    <a:lnTo>
                      <a:pt x="1427" y="27"/>
                    </a:lnTo>
                    <a:lnTo>
                      <a:pt x="1420" y="17"/>
                    </a:lnTo>
                    <a:lnTo>
                      <a:pt x="1409" y="10"/>
                    </a:lnTo>
                    <a:lnTo>
                      <a:pt x="1399" y="5"/>
                    </a:lnTo>
                    <a:lnTo>
                      <a:pt x="1389" y="2"/>
                    </a:lnTo>
                    <a:lnTo>
                      <a:pt x="1377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c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2464920" y="2104920"/>
              <a:ext cx="1023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rogram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702320" y="1698480"/>
              <a:ext cx="2568600" cy="1047960"/>
              <a:chOff x="4702320" y="1698480"/>
              <a:chExt cx="2568600" cy="1047960"/>
            </a:xfrm>
          </p:grpSpPr>
          <p:sp>
            <p:nvSpPr>
              <p:cNvPr id="349" name=""/>
              <p:cNvSpPr/>
              <p:nvPr/>
            </p:nvSpPr>
            <p:spPr>
              <a:xfrm>
                <a:off x="4778280" y="1698480"/>
                <a:ext cx="308160" cy="290520"/>
              </a:xfrm>
              <a:custGeom>
                <a:avLst/>
                <a:gdLst/>
                <a:ahLst/>
                <a:rect l="l" t="t" r="r" b="b"/>
                <a:pathLst>
                  <a:path w="194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2" y="1"/>
                    </a:lnTo>
                    <a:lnTo>
                      <a:pt x="194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89440" y="1698480"/>
                <a:ext cx="297000" cy="287640"/>
              </a:xfrm>
              <a:custGeom>
                <a:avLst/>
                <a:gdLst/>
                <a:ahLst/>
                <a:rect l="l" t="t" r="r" b="b"/>
                <a:pathLst>
                  <a:path w="187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84760" y="1698480"/>
                <a:ext cx="29520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828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a30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1700280"/>
                <a:ext cx="308160" cy="293760"/>
              </a:xfrm>
              <a:custGeom>
                <a:avLst/>
                <a:gdLst/>
                <a:ahLst/>
                <a:rect l="l" t="t" r="r" b="b"/>
                <a:pathLst>
                  <a:path w="194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2" y="4"/>
                    </a:lnTo>
                    <a:lnTo>
                      <a:pt x="194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67120" y="1700280"/>
                <a:ext cx="300240" cy="290520"/>
              </a:xfrm>
              <a:custGeom>
                <a:avLst/>
                <a:gdLst/>
                <a:ahLst/>
                <a:rect l="l" t="t" r="r" b="b"/>
                <a:pathLst>
                  <a:path w="189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9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17035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2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43360" y="1706400"/>
                <a:ext cx="304920" cy="29556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2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29320" y="1714680"/>
                <a:ext cx="30132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56280" y="241776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67440" y="2401920"/>
                <a:ext cx="295200" cy="30312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75360" y="238284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75360" y="2390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77160" y="23828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80400" y="236376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80400" y="237348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80400" y="2363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83280" y="1793880"/>
                <a:ext cx="287640" cy="85716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80400" y="177480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80400" y="178452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80400" y="17748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75360" y="175572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80400" y="176832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77160" y="1765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d0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60400"/>
                <a:ext cx="28872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5360" y="175572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db0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67440" y="174132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972480" y="1752480"/>
                <a:ext cx="29016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69240" y="1749600"/>
                <a:ext cx="290520" cy="29016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8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969240" y="174456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6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67440" y="17413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d4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56280" y="1725480"/>
                <a:ext cx="298440" cy="30348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64200" y="173664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61320" y="17334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10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8080" y="17305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f0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56280" y="172548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cd0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0440" y="171468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1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1" y="7"/>
                    </a:lnTo>
                    <a:lnTo>
                      <a:pt x="10" y="188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50160" y="17226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48360" y="17193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c80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45480" y="17175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50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40440" y="1714680"/>
                <a:ext cx="292320" cy="29016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3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3" y="183"/>
                    </a:lnTo>
                    <a:close/>
                  </a:path>
                </a:pathLst>
              </a:custGeom>
              <a:solidFill>
                <a:srgbClr val="c200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3160" y="1706400"/>
                <a:ext cx="304560" cy="29556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1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1" y="186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37200" y="1711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31080" y="170964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bc0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29280" y="1709640"/>
                <a:ext cx="290520" cy="2890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b90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23160" y="17064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b60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07320" y="170028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21360" y="170352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15240" y="170352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4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1"/>
                    </a:lnTo>
                    <a:close/>
                  </a:path>
                </a:pathLst>
              </a:custGeom>
              <a:solidFill>
                <a:srgbClr val="af0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12000" y="17002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0732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90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88240" y="1698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02280" y="1700280"/>
                <a:ext cx="292320" cy="28872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92920" y="169848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6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6" y="183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88240" y="1698480"/>
                <a:ext cx="293760" cy="28764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97360" y="1698480"/>
                <a:ext cx="2378160" cy="287640"/>
              </a:xfrm>
              <a:custGeom>
                <a:avLst/>
                <a:gdLst/>
                <a:ahLst/>
                <a:rect l="l" t="t" r="r" b="b"/>
                <a:pathLst>
                  <a:path w="1498" h="181">
                    <a:moveTo>
                      <a:pt x="131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498" y="0"/>
                    </a:lnTo>
                    <a:lnTo>
                      <a:pt x="1317" y="181"/>
                    </a:lnTo>
                    <a:close/>
                  </a:path>
                </a:pathLst>
              </a:custGeom>
              <a:solidFill>
                <a:srgbClr val="970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02320" y="1986120"/>
                <a:ext cx="2280960" cy="760320"/>
              </a:xfrm>
              <a:custGeom>
                <a:avLst/>
                <a:gdLst/>
                <a:ahLst/>
                <a:rect l="l" t="t" r="r" b="b"/>
                <a:pathLst>
                  <a:path w="1437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6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6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1377" y="479"/>
                    </a:lnTo>
                    <a:lnTo>
                      <a:pt x="1389" y="477"/>
                    </a:lnTo>
                    <a:lnTo>
                      <a:pt x="1399" y="474"/>
                    </a:lnTo>
                    <a:lnTo>
                      <a:pt x="1410" y="468"/>
                    </a:lnTo>
                    <a:lnTo>
                      <a:pt x="1420" y="462"/>
                    </a:lnTo>
                    <a:lnTo>
                      <a:pt x="1427" y="453"/>
                    </a:lnTo>
                    <a:lnTo>
                      <a:pt x="1432" y="443"/>
                    </a:lnTo>
                    <a:lnTo>
                      <a:pt x="1435" y="431"/>
                    </a:lnTo>
                    <a:lnTo>
                      <a:pt x="1437" y="419"/>
                    </a:lnTo>
                    <a:lnTo>
                      <a:pt x="1437" y="60"/>
                    </a:lnTo>
                    <a:lnTo>
                      <a:pt x="1435" y="48"/>
                    </a:lnTo>
                    <a:lnTo>
                      <a:pt x="1432" y="38"/>
                    </a:lnTo>
                    <a:lnTo>
                      <a:pt x="1427" y="27"/>
                    </a:lnTo>
                    <a:lnTo>
                      <a:pt x="1420" y="17"/>
                    </a:lnTo>
                    <a:lnTo>
                      <a:pt x="1410" y="10"/>
                    </a:lnTo>
                    <a:lnTo>
                      <a:pt x="1399" y="5"/>
                    </a:lnTo>
                    <a:lnTo>
                      <a:pt x="1389" y="2"/>
                    </a:lnTo>
                    <a:lnTo>
                      <a:pt x="1377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30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4907880" y="2111400"/>
              <a:ext cx="1204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 lay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40344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haracteristics of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The interrupt handler must save the machine state, do some processing, then call the process scheduler and dispatc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hen an interrupt occ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.the processor hardware makes a quick copy of the program counter and CPU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2.the hardware switches to kernel mode and jumps to the interrupt service rout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3.the ISR is usually very short. It may inform a device driver that it received the interrupt; it may just increment  some clock coun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4.next the ISR calls the scheduler, which decides which process to r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5.the scheduler calls the dispatcher, and new process (or maybe the same process) resumes where it left o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n important goal of the OS is to hide interrupts from the user---and from user-level proce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cesses have their own memory area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314440" y="2057400"/>
            <a:ext cx="553428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cesses wait and run – when chance co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v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iew of main OS-es: main Microsoft OS-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text-based desktop operating system made by Microsoft that runs on Intel 80x86. Only low e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s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98, Windows 95, and Windows 3.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desktop operating systems made by Microsoft that run on Intel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ntium and Intel 80x86. Only low end servers can run on these operat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Windows NT Server, and Windows NT Server Enterprise Edition are server and workstatio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ng systems made by Microsoft that run on Intel Pentium, Intel 80x86, and DEC Alp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rofessional, Windows 2000 Server, and Windows 2000 Advanced Server are server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kstation operating systems made by Microsoft that run on the Intel Pent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kstation operating system made by Microsoft that run on the Intel Pentium.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Converges 95 and NT/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IBM PC os-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-DOS-200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text-based desktop operating system made by IBM as an update of the older MS-DOS. I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s on Intel 80x86. Only low end servers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high performance desktop and high end operating system made by IBM that runs o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el Pentium and Intel 80x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Assembler: 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mto ja Intel 386, 486, Pentium, ..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86 has few registers, argument is sent from ordinary memory. Result is sent to register %edx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shl %ebp         ; We create ''framepointer’’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vl  8(%ebp),%ecx ; Take 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mpl  %ecx,%eax    ; If i&gt;n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g L3              ; ... goto L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mpl  %ecx,%edx    ; If i&lt;=n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le L5             ; ... goto L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3:    leave              ; Restore eb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                ; Read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Ap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intosh 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9, OS 8, OS 7, and OS 6 are desktop operating systems made by Apple Computers that ru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on Motorola/IBM PowerPC and Motorola 680x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hapsod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that includes capabilities from the NeXT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acintosh operating systems. Rhapsody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as a foundation for OS X of the Macinto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intosh OS X (te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desktop operating system based on Rhapsody. Macintosh OS X is made by Appl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uters and ru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n Motorola/IBM Power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, Intel 80x86, Motorola/IBM PowerPC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 680x0, Sun SPARC, SGI MIPS, DEC Alpha, HP PA-RISC, DEC VAX, ARM, API 1000+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CL-PS71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 and Intel 804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BS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, Intel 80486, Intel 80386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/IBM PowerPC, Motorola 680x0, Sun SPARC, HP PA-RISC, DEC VAX, and 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BS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, Intel 80486, Intel 80386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/IBM PowerPC, Motorola 680x0, Sun SPARC, HP PA-RISC, DEC VAX, and 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NU Hur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UNIX-based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main common commercial UNIX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Sun Computers that runs on Sun SPARC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and Intel Pent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-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n older text-based UNIX that runs on Sun SPARC. Solaris is an enhancement of Sun-OS tha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des a graphic us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IBM’s version of U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U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Hewlett-Packard that runs on HP PA RISC.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LTRI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DEC. ULTRIX has been replaced by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gital U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ajor handheld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al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indows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less comm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RI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SGI that runs on SGI M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NeXT that runs on Intel Pentium, Intel 80486,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 68040. OpenSTEP runs on Intel Pentium, Intel 80486, Motorola 68040, Sun SPARC, and HP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PA R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V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mainframe operating system made by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high performance operating system made by DEC that runs on DEC VAX. OpenVM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n updated version of V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a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“is a dedicated network operating system” that runs on Intel Pentium, Intel 80486, and Intel 803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high performance desktop operating system made by Be that runs on Motorola/IBM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owerPC and Intel Pentium. Only low end servers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iga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n old but popular operating system that is being resurrected. Only low end server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How Unix spre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fter AT&amp;T was forced to abandon commercial computing as part of an antitrust settlement, AT&amp;T’s UNIX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s made available for free to the academic community. Because UNIX had been designed in a way that made i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to “port” (move) to new hardware, colleges and universities that switched to UNIX were able to run a singl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ng system on all of their computers, even if their computers came from multiple manufactur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entually UNIX spread into the business community, and pushed aside almost all proprietary mainframe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icomputer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ating systems. Only IBM’s MVS and DEC’s OpenVMS survived in common use (MVS becaus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sheer number of installations using it and OpenVMS in the banking and financial community because of it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 reliability, security, and preservation of data). Even IBM and DEC ended up offering their own versions of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X as well as their proprietary operat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UNIX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families till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1993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056040" y="907920"/>
            <a:ext cx="3413160" cy="53294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48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ux &amp; FreeBSD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is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484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e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e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mo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r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V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friend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38400" y="907920"/>
            <a:ext cx="3848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umikmees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edition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St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SD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ly better 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tibility of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ng resources with SMB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ba package in 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emulators in UNIX: Wine, W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of foreign/alien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tibility with Macintosh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atalk pacakage in 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and instructions on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ing Windows NT Server with Linu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citnews.unl.edu/linux/LinuxPresent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amb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fi.samba.org/samb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ization of SMB and CIFS protoco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s replacing of NT and OS/2 Warp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B file and print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BIOS type nameserver, also “Master Brows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 participate in NT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s authentication with (non-)encrypted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DC functionality is still par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T: The Samba Web Administration Tool 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tool with web GUI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samba.org/samba/docs/man/Samba-HOWTO-Collection/SWAT.htm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-level l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anguag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omate and make it easier to write masses of “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rdina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 pro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ed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which are necessary to do in 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’t give as much control of the machine as assembl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-level languages are at a different level of abstraction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r to machine level an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unconven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 Fortran, C  (portable assemb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ore absrta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 conven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 Lisp, Ada, ML, Java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is a program written in language X is executed</a:t>
            </a:r>
            <a:r>
              <a:rPr b="1" lang="et-EE" sz="2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ind tha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uter can execute only machine-language program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ally there are two variants of executing a program in language X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i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calle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pre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s a file in language X and executes it line by lin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: ol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BA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i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called the compiler transforms the program in languag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machine code fil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wards the machine-code program Y is executed. For example: C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B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ing a program is a bout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10-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s slower than executing compiled cod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ally a program in any language can be either interpreted or compiled.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actice sometimes interpreting, sometimes compilation is preferre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How to execute a program in language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variant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iler compiles fil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d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wards the intermediate code Y is interprete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Python, Jav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er interprets intermediate cod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execution time compiles part of Y into machine cod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afterwards execute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Java) 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-calle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just-in-time compi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I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istinctions in languages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 basic issu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tax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write, e.g.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f .. then .. els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or another languag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man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meaning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correctly written program actually doe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braries)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program stub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easily available for that language or already come alo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nguages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ypical things offered by almost each languag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t, char et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–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id, ‘c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‘a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ring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“aaa123bb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[1]=2; a[2]=20; a[3]=15;  y=2; x=a[y]+a[1]+3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x = (y*2) – (5+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y control structur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if ... then ...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 while(x&lt;10)  x=x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ion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ion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int x) { return x * x * x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x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1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3))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usag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nguages</a:t>
            </a:r>
            <a:r>
              <a:rPr b="1" lang="et-EE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amples of extra possibilities in various languag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bit-operation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memory access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complex data typ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, hash ta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, etc.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Lisp, Scheme,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constructs for string operation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Perl, PH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C++, Java, C#, Python, Li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l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ly connected to object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: C++, Java, C#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-processing constructs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(exceptions): Python, Java, C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used data thrown out (and collected) </a:t>
            </a:r>
            <a:br>
              <a:rPr sz="1600"/>
            </a:b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(Java, Python, Lisp, 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t-in support for for parallel-programming: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Java, C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constructs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Templates” : PHP, JSP, Py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ing programs while executing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Lisp, Sc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c rul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Pro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y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evaluation method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Miranda, Hope, Hask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Pattern matching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way of function definition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: ML, Hask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dre domiczi</cp:lastModifiedBy>
  <cp:lastPrinted>1999-08-30T07:54:19Z</cp:lastPrinted>
  <dcterms:modified xsi:type="dcterms:W3CDTF">2006-11-15T21:53:06Z</dcterms:modified>
  <cp:revision>11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tu.ee/it/vorgutarkvara/wai203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ityldkursus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